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8CD-FD6C-44EF-8D28-955A3B42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DB0-3821-4322-92AF-095C7302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F9F-6228-496B-8455-EED6CE5C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EA4-F828-4965-80EF-E8510981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CAF-B69D-41C4-826E-5C3ACC6C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EB4-A0DB-487B-A577-D80D9E68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A79-CC2A-4744-85D5-36E5E54F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072-440E-43AC-8509-9B59ECA4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1E4-1974-4105-9EA9-DCDA1133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E37-7880-47CC-B5E0-73239306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4CF-39C1-4A4D-B9EE-1937411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B6B-C656-47F4-AA94-F462F909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67E4-3A21-495F-8F10-1652169CC1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JLubecka\Ustawienia lokalne\Temporary Internet Files\Content.IE5\AJY4M1XL\Witos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11280" y="1557360"/>
            <a:ext cx="7704000" cy="3035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Utworzona w 28.10.1918 roku w Krakowie jako efekt inicjatyw politycznych tzw. Koła Polskiego w parlamencie Austro-Węgi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jej skład weszli m.in. 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incenty Witos</a:t>
            </a:r>
            <a:r>
              <a:rPr b="0" lang="pl-PL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i Ignacy Daszyńs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Po wycofaniu się wojsk austriackich od 31.10.1918 roku przejęła faktyczną władzę w Małopolsce Zachodni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5:21Z</dcterms:created>
  <dc:creator>rena</dc:creator>
  <dc:description/>
  <dc:language>en-US</dc:language>
  <cp:lastModifiedBy>IB</cp:lastModifiedBy>
  <dcterms:modified xsi:type="dcterms:W3CDTF">2013-03-14T17:24:04Z</dcterms:modified>
  <cp:revision>6</cp:revision>
  <dc:subject/>
  <dc:title>PowerPoint Presentation</dc:title>
</cp:coreProperties>
</file>